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ADBD-27BA-4D90-9DD6-3F7178510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90D0-C05F-4E1B-8800-B1D4789846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EA5F-2AB7-42FE-97BB-305B1CBDB7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C08B-1054-43D0-82EE-D652BB83A6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FFE4-AD2B-45EA-9A01-A6DFDA9589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CC39-C584-42D2-87EE-7CB8C8E786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7485-D3FA-4132-907C-8F75B2836B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646B-813F-46B8-A704-F9D1179BF0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049E-90E9-41AD-AA61-2C89432BDE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C265-C10D-42D0-A01E-D2A9C5BE04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C9BB-42E9-4AC0-921C-BC681580A7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7CD8-2D8F-4890-AB0C-8D4CEB7994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C90-2D4D-4B0A-826A-0513400D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1EF-2081-4896-BB09-EAD4F313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6E4-169D-4875-BD7F-1522ABF8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DDB-B28F-41D4-8D99-CEF1D49C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52B8-A3A0-423A-92A6-18FCCAB3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3F3E-AEC7-4BE4-996B-C215E8F3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76FB-D827-49E8-B488-4B2842CA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8997-9A2C-48EC-A6FD-942423D3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336D-083A-4126-B7D7-DBF7AEA4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EDF3-C3E6-4515-B7BA-B30AA3B3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F01E-0E42-409A-A5F2-5782949C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EC7-ABD6-4712-99B9-C4A1998E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93DF-76F4-4A36-BEB3-D95E922C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5F65-F89B-4F6D-A366-416E4514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1466-C7CE-42C4-8B6B-7D122CD6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DC3C-E772-401D-ADB4-B6A333B1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D419-4B5C-4121-B799-137C84BE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BB2D-CB69-46D5-9FE8-86F6B13E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1040-C975-4A4F-8C33-E3A43BAA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0B7D-2181-4D19-9AFC-DD3ED9A1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4D03-93CC-47FC-97DF-1A40249D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1B59-B9AE-48BB-B510-3BF2E8C1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653-488C-44C4-B5E7-60B95153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5163-EC5C-46FB-8A0D-A5EFEF85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2FF3-1384-44C5-BD4F-7B19C984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74A9-F5AF-4B68-AD4B-B9D4131F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A8C3-B36B-47A8-94CA-7A14226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BBF88-402A-4D3A-A7B6-07F5FB40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B21BD-BF53-4D3D-B2BE-51A314C4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0C365-E559-4D0C-AF11-732B11CA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DA1F0-83C5-481B-BEDC-F6EA6204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920CB-DB28-40B8-BAA7-15BEC599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31D7-F786-4AE4-9E2C-508D0227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F7D-6234-488F-A0AB-2A574F58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2637-C84B-4100-8A58-916B41D0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9BBE-65DB-48C5-95F7-D32C705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3D4B8-51EE-421B-BF58-4BF0A889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CA7F0-D53C-40D9-9DA5-46544161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D69D-CD6A-4096-A254-B42C79E6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B9CC-4D23-4E19-87F3-DE306226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C32F-7977-41DC-872F-6790BBD2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0CBA-6982-4AC7-A8E3-D2875F9B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5C76-5201-4FDA-8B27-114BB2CB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92CAF-9916-4DEE-B2F7-E2DBD242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FF3-8659-4BB2-ACF8-63A1AD60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48044-73D6-4BE5-89EF-F616632C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DC21-4820-4046-8FA9-2D3DBCE9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7FB0B-2D6D-4C29-B342-7ED61CAF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0E13E-A81D-43A8-85EA-CE2A0C8F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3166-3B74-41FA-B9E7-9BEE5DC4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D7D63-C252-4508-9CEF-B2D35A6E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52765-F1BC-489C-AFB3-DAC40FB9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E6BD0-F445-4DD7-9332-686124B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AD4F0-6A6B-4E35-B06A-4C57F0CB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98A3-F3BD-40D5-B0AA-10E5A31C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3F9-0D10-479D-A394-7A9FC919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380D8-AC65-455A-8385-0FC56A05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EBDB1-A8C8-4198-BE13-9C876CE1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93BA2-3087-4DEA-B66F-FBFDB77F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EE6DB-5C76-418F-9A2A-3009A921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F8AD9-DAF7-4811-883F-29523DFF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CA368-571B-4030-8BA0-CB89118A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5697A-732D-4A63-AFC3-E1C28152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8E2F4-150D-4ED0-B991-A3DB8776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2DBD0-CA7C-4534-B1EF-8C1DD6CE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E72F0-8799-40C8-8B85-3E01FCA6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BBF-A638-4B51-AD5C-E8EAEF15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35A5C-B604-487F-83E6-F08AFC4B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6CF74-3B96-45D8-AAB9-5F49871F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509D-CEB8-430A-BF9A-006B95DA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4F67B-FCAE-45B1-A08D-FF5CBE4D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C552B-8E40-4650-BFC8-B682CE65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57EE5-5298-4B66-9D5B-CDCAD54F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F8078-7E89-4B96-8386-3DE1092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4225A-9080-4569-B664-E203D28E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B8E6A-419F-4C9B-A7BB-7BCDCFB3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26005-D570-4412-BC3B-147D41EE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12F-7829-426F-AC94-B77E8F6F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53DF7-8792-44DF-9647-3DBF79F9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4C73C-1D23-463E-A4A4-3868B969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22293-47AD-44F1-A555-41A7E9EF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BC103-F64D-4422-9920-831A2D35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F125E-A7C5-432F-8484-99CC018E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471-2FE7-4926-8C4A-AEDA41B0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94FA-BACF-4C92-9F66-F43450093120}" type="slidenum">
              <a:rPr b="0" lang="en-US" sz="1200" spc="-1" strike="noStrike">
                <a:solidFill>
                  <a:srgbClr val="79551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2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D468-D044-42D4-88C8-9ABEC2CCFFE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FB97-559E-45F9-9368-27888B055448}" type="slidenum">
              <a:rPr b="0" lang="en-US" sz="1200" spc="-1" strike="noStrike">
                <a:solidFill>
                  <a:srgbClr val="79551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28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29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54D4-778C-407D-BCBF-AF35B6E0876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73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74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03A5-DFE0-4CB6-858D-799ACC2DA64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0F4-6F2B-4059-9DE0-FDB854A9BDA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0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E7D8-664F-4F7B-8882-85399149884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wp.wikispaces.com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wyorker.com/online/podcasts/fiction" TargetMode="External"/><Relationship Id="rId2" Type="http://schemas.openxmlformats.org/officeDocument/2006/relationships/hyperlink" Target="http://grammar.quickanddirtytips.com/default.aspx" TargetMode="External"/><Relationship Id="rId3" Type="http://schemas.openxmlformats.org/officeDocument/2006/relationships/hyperlink" Target="http://redstudio.moma.org/podcasts/2006/" TargetMode="External"/><Relationship Id="rId4" Type="http://schemas.openxmlformats.org/officeDocument/2006/relationships/hyperlink" Target="http://www.moma.org/collection/browse_results.php?object_id=79298" TargetMode="External"/><Relationship Id="rId5" Type="http://schemas.openxmlformats.org/officeDocument/2006/relationships/hyperlink" Target="http://mps.mpsomaha.org/willow/radio/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odictionary.com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23232"/>
                </a:solidFill>
                <a:latin typeface="Verdana"/>
              </a:rPr>
              <a:t>Podcasting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323232"/>
                </a:solidFill>
                <a:latin typeface="Verdana"/>
              </a:rPr>
              <a:t>ersonal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1" lang="en-US" sz="2800" spc="-1" strike="noStrike">
                <a:solidFill>
                  <a:srgbClr val="323232"/>
                </a:solidFill>
                <a:latin typeface="Verdana"/>
              </a:rPr>
              <a:t>n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r>
              <a:rPr b="1" lang="en-US" sz="2800" spc="-1" strike="noStrike">
                <a:solidFill>
                  <a:srgbClr val="323232"/>
                </a:solidFill>
                <a:latin typeface="Verdana"/>
              </a:rPr>
              <a:t>emand </a:t>
            </a:r>
            <a:br>
              <a:rPr sz="2800"/>
            </a:br>
            <a:r>
              <a:rPr b="1" lang="en-US" sz="2800" spc="-1" strike="noStrike">
                <a:solidFill>
                  <a:srgbClr val="323232"/>
                </a:solidFill>
                <a:latin typeface="Verdana"/>
              </a:rPr>
              <a:t>broad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asting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1496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etsy Wo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lford High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oods_b@milfordschools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3"/>
          <p:cNvSpPr/>
          <p:nvPr/>
        </p:nvSpPr>
        <p:spPr>
          <a:xfrm>
            <a:off x="457200" y="1752480"/>
            <a:ext cx="838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 Richardson’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Blogs, Wikis, Podcasts and Other Powerful Web Tools for Classroom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Book Recommendation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3"/>
          <p:cNvSpPr/>
          <p:nvPr/>
        </p:nvSpPr>
        <p:spPr>
          <a:xfrm>
            <a:off x="380880" y="2133720"/>
            <a:ext cx="838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’ll post all of our ideas on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owp.wikispaces.co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Title 1"/>
          <p:cNvSpPr/>
          <p:nvPr/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How Could You Use Podcasting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3"/>
          <p:cNvSpPr/>
          <p:nvPr/>
        </p:nvSpPr>
        <p:spPr>
          <a:xfrm>
            <a:off x="990720" y="1752480"/>
            <a:ext cx="731520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links and materials available at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owp.wikispaces.c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eb 2.0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838080" y="1981080"/>
            <a:ext cx="723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eb 2.0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about publishing the content on the web, not just consuming it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eb 2.0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about collaboration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eb 2.0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twenty-first century writing involves more than paper and pen and more than Microsoft Word or PowerPoint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tle 1"/>
          <p:cNvSpPr/>
          <p:nvPr/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2 Golden Rules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685800" y="17524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using new technology in the classroom, expect something to go wrong.  It always does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762120" y="3581280"/>
            <a:ext cx="632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When using new technology in the classroom, have students work collaboratively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533520" y="68580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What is podcasting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Title 1"/>
          <p:cNvSpPr/>
          <p:nvPr/>
        </p:nvSpPr>
        <p:spPr>
          <a:xfrm>
            <a:off x="533520" y="182880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Where can I find podcasts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9" name="Title 1"/>
          <p:cNvSpPr/>
          <p:nvPr/>
        </p:nvSpPr>
        <p:spPr>
          <a:xfrm>
            <a:off x="533520" y="297180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How can I create a podcast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itle 1"/>
          <p:cNvSpPr/>
          <p:nvPr/>
        </p:nvSpPr>
        <p:spPr>
          <a:xfrm>
            <a:off x="533520" y="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What is podcasting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1" name="Podcasting+in+Plain+English.wmv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tle 1"/>
          <p:cNvSpPr/>
          <p:nvPr/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Where can I find podcasts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TextBox 2"/>
          <p:cNvSpPr/>
          <p:nvPr/>
        </p:nvSpPr>
        <p:spPr>
          <a:xfrm>
            <a:off x="1195920" y="1981080"/>
            <a:ext cx="4967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New Yorker Short Storie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Grammar Girl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1125360" y="3200400"/>
            <a:ext cx="401508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MoM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6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OOF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Verdana"/>
                <a:hlinkClick r:id="rId5"/>
              </a:rPr>
              <a:t>Willow Web Radio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s I Believe”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This I Believe Kara.wav" descr=""/>
          <p:cNvPicPr/>
          <p:nvPr/>
        </p:nvPicPr>
        <p:blipFill>
          <a:blip r:embed="rId6"/>
          <a:stretch/>
        </p:blipFill>
        <p:spPr>
          <a:xfrm>
            <a:off x="48769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9758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tle 1"/>
          <p:cNvSpPr/>
          <p:nvPr/>
        </p:nvSpPr>
        <p:spPr>
          <a:xfrm>
            <a:off x="457200" y="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More Recommended Podcasts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533520" y="117900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9f25"/>
                </a:solidFill>
                <a:uFillTx/>
                <a:latin typeface="Arial"/>
                <a:ea typeface="DejaVu Sans Condensed"/>
                <a:hlinkClick r:id="rId1"/>
              </a:rPr>
              <a:t>Podictiona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Just Vocabula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Princeton Review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Rhetoric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merican Rhetoric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Educational Podcast Network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http://www.epnweb.org/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Smithsonian Educat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http://www.smithsonianeducation.org/educators/lesson_plans/language_arts.htm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tle 1"/>
          <p:cNvSpPr/>
          <p:nvPr/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How can I create a podcast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609480" y="182880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wnload Audacity—free audio software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ctice recording and editing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about copyright and fair use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d a place to publish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get your audience and let them know about your podcast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3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21:27:07Z</dcterms:created>
  <dc:creator>Betsy</dc:creator>
  <dc:description/>
  <dc:language>en-US</dc:language>
  <cp:lastModifiedBy>Betsy</cp:lastModifiedBy>
  <dcterms:modified xsi:type="dcterms:W3CDTF">2009-09-12T00:53:49Z</dcterms:modified>
  <cp:revision>88</cp:revision>
  <dc:subject/>
  <dc:title>Writing and Technology</dc:title>
</cp:coreProperties>
</file>